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D63-FE29-44B3-9FEC-41757694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0CC-CA8B-4FD0-B7A1-66C1E324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105-214B-4A04-B3F1-8E50734D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8C8-CFDF-45E6-8698-09BB87C4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3B0-D2C5-41B2-A234-2ADA6361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00E-6930-420B-A7F7-D2F212E6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32B-3B22-46DF-900F-0DE25CCF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83E-4CDA-4E7D-93DE-B853A9DD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DB1-9DC3-4796-92C0-C3CAD0D4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649-024E-455A-8CD4-5F8FD47F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733-30A1-49A7-962D-A87F19D4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FA4-C25F-4AB7-85CC-76B5659D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068D-57DC-4C4A-89AF-311CA18F2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oy_with_glasses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546720" cy="3581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638680" y="990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74120" y="4267080"/>
            <a:ext cx="70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am  wants  more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1480" y="5638680"/>
            <a:ext cx="511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ed from: Noisy Stories- Sam Wants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Joan Rivard and Jessica Riv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er-Johnson, Inc.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2680" y="609480"/>
            <a:ext cx="404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wan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7960" y="4724280"/>
            <a:ext cx="3544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720" y="730080"/>
            <a:ext cx="814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likes milk shake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8320" y="480060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30600" y="495288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trawberryshakeLG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78320" y="487692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62680" y="609480"/>
            <a:ext cx="404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wan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7960" y="4724280"/>
            <a:ext cx="3544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840" y="380880"/>
            <a:ext cx="796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likes onion ring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9200" y="487692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readed_or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952880" cy="4283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30600" y="480060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62680" y="609480"/>
            <a:ext cx="404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wan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7960" y="4724280"/>
            <a:ext cx="3544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440" y="685800"/>
            <a:ext cx="800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likes french frie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9200" y="487692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argefrieslg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64796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9200" y="487692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62680" y="609480"/>
            <a:ext cx="404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wan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7960" y="4724280"/>
            <a:ext cx="3544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880" y="609480"/>
            <a:ext cx="812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likes hamburger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8320" y="480060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685800"/>
            <a:ext cx="60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likes to eat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9200" y="487692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heechee" descr=""/>
          <p:cNvPicPr/>
          <p:nvPr/>
        </p:nvPicPr>
        <p:blipFill>
          <a:blip r:embed="rId1"/>
          <a:stretch/>
        </p:blipFill>
        <p:spPr>
          <a:xfrm>
            <a:off x="76320" y="76320"/>
            <a:ext cx="4114800" cy="6594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583440" y="2590920"/>
            <a:ext cx="5228280" cy="17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0" y="609480"/>
            <a:ext cx="24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ut n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7960" y="4724280"/>
            <a:ext cx="3544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63760" y="2438280"/>
            <a:ext cx="4778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6920" y="495288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hamburger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029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680" y="609480"/>
            <a:ext cx="404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wan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7960" y="4724280"/>
            <a:ext cx="3544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4360" y="609480"/>
            <a:ext cx="891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likes cheeseburger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200" y="487692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Hamburger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867280" cy="488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83240" y="495288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62680" y="609480"/>
            <a:ext cx="404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wan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960" y="4724280"/>
            <a:ext cx="3544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2640" y="609480"/>
            <a:ext cx="6701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m  likes chicken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gge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9200" y="487692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cnugget6lg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9200" y="4876920"/>
            <a:ext cx="5228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 - m- m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0:40:00Z</dcterms:created>
  <dc:creator>Carol Shockley</dc:creator>
  <dc:description/>
  <dc:language>en-US</dc:language>
  <cp:lastModifiedBy>Carol Shockley</cp:lastModifiedBy>
  <dcterms:modified xsi:type="dcterms:W3CDTF">2002-11-19T21:35:25Z</dcterms:modified>
  <cp:revision>2</cp:revision>
  <dc:subject/>
  <dc:title>PowerPoint Presentation</dc:title>
</cp:coreProperties>
</file>